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26.jpeg" ContentType="image/jpeg"/>
  <Override PartName="/ppt/media/image5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4.png" ContentType="image/pn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6.jpeg" ContentType="image/jpeg"/>
  <Override PartName="/ppt/media/image27.jpeg" ContentType="image/jpeg"/>
  <Override PartName="/ppt/media/image33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9628-F8E5-4C67-8104-0F9016E43B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494A-7AB0-469F-9EF0-438018870F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1C2D-1FAE-43E1-9E66-0399ED252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D6DB-0EDF-40B9-B04B-E85D7B3E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5A86-229C-4E7F-B966-0D62351EE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D208-AAF6-4A80-B8EE-E03AF8F4A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24D0-7BBE-4AFF-BFD1-2AB33F61E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CD6F-27E4-4D8E-98A9-53D0DB88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3CEBB-F6A0-490B-A852-7767B4B5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BC2C-9DD4-4B75-BB7D-49AFCBC7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F70F-DE26-4AA2-A8CD-5F5E90B4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EEA7-B627-4D2A-BEA2-1FB19911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5F56-61F2-4923-98C5-5B35ABDC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1D95-0F71-456C-A70C-1BE41C97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0B19-1A4A-419A-9620-7B88F405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75E4-4535-4788-AB20-C1CF1AE5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79A4-1B17-4868-B012-E98971F4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FDF11-C454-4F10-9D0E-AA1544D11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687FA-1DD6-4F9D-A86B-837558F33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F947-52DD-4D06-9272-E1700F0A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544C-A971-4449-BCDA-01843E76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E979-CF17-4957-A1FD-9D09C066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82E1-E6F3-4D36-8F5B-8FAD7927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4C00-5F65-4985-9316-98218F19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BF26-6B9D-40D9-811F-D33AC9FF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0D6D-FD0F-4A58-AD6B-8ED3F035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B3E5-7D02-442B-A076-4D9EC81304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D80B-33D7-4294-B34F-40B966720D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7.xm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0256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Урок истории в 8 классе</a:t>
            </a:r>
            <a:br>
              <a:rPr sz="4000"/>
            </a:br>
            <a:r>
              <a:rPr b="1" lang="ru-RU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«Золотой век дворянств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521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Constantia"/>
                <a:ea typeface="바탕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Учитель истории и общество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МОАУ СОШ №1 г. Свободный Амурской об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Пузикова Ольга Валерье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Тема уро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«Золотой век  русского дворянства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Екатерина 2 аа"/>
          <p:cNvPicPr/>
          <p:nvPr/>
        </p:nvPicPr>
        <p:blipFill>
          <a:blip r:embed="rId1"/>
          <a:stretch/>
        </p:blipFill>
        <p:spPr>
          <a:xfrm>
            <a:off x="6227640" y="2946240"/>
            <a:ext cx="2538360" cy="3605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http://www.akvareltula.ru/userfiles/image/ExkursiiOdinDen/Kuskovo_2.jpg"/>
          <p:cNvPicPr/>
          <p:nvPr/>
        </p:nvPicPr>
        <p:blipFill>
          <a:blip r:embed="rId2"/>
          <a:stretch/>
        </p:blipFill>
        <p:spPr>
          <a:xfrm>
            <a:off x="395280" y="4221000"/>
            <a:ext cx="5113440" cy="1944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http://ic.pics.livejournal.com/raven_yellow/75125316/186788/186788_original.jpg"/>
          <p:cNvPicPr/>
          <p:nvPr/>
        </p:nvPicPr>
        <p:blipFill>
          <a:blip r:embed="rId3"/>
          <a:stretch/>
        </p:blipFill>
        <p:spPr>
          <a:xfrm>
            <a:off x="6372360" y="189000"/>
            <a:ext cx="2520720" cy="1441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G:\Мои рисунки\kuskovo_park.jpg"/>
          <p:cNvPicPr/>
          <p:nvPr/>
        </p:nvPicPr>
        <p:blipFill>
          <a:blip r:embed="rId4"/>
          <a:stretch/>
        </p:blipFill>
        <p:spPr>
          <a:xfrm>
            <a:off x="324000" y="189000"/>
            <a:ext cx="22478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Определите  цель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олжны исследо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облем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очему  правление Екатерины Второй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ля всех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было «золотым веком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Екатерина 2 аа"/>
          <p:cNvPicPr/>
          <p:nvPr/>
        </p:nvPicPr>
        <p:blipFill>
          <a:blip r:embed="rId1"/>
          <a:stretch/>
        </p:blipFill>
        <p:spPr>
          <a:xfrm>
            <a:off x="6732720" y="1523880"/>
            <a:ext cx="210492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915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Почему правление Екатерины</a:t>
            </a:r>
            <a:r>
              <a:rPr b="1" i="1" lang="en-US" sz="36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 II</a:t>
            </a:r>
            <a:r>
              <a:rPr b="1" i="1" lang="ru-RU" sz="36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  назвали</a:t>
            </a:r>
            <a:br>
              <a:rPr sz="3600"/>
            </a:br>
            <a:r>
              <a:rPr b="1" lang="ru-RU" sz="44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</a:rPr>
              <a:t>«Золотой век дворянства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Екатерина 2 аа"/>
          <p:cNvPicPr/>
          <p:nvPr/>
        </p:nvPicPr>
        <p:blipFill>
          <a:blip r:embed="rId1"/>
          <a:stretch/>
        </p:blipFill>
        <p:spPr>
          <a:xfrm>
            <a:off x="539640" y="2349360"/>
            <a:ext cx="2932200" cy="4165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Изменение размера Копия Екатерина 2 улцуш"/>
          <p:cNvPicPr/>
          <p:nvPr/>
        </p:nvPicPr>
        <p:blipFill>
          <a:blip r:embed="rId2"/>
          <a:stretch/>
        </p:blipFill>
        <p:spPr>
          <a:xfrm>
            <a:off x="5148360" y="2205000"/>
            <a:ext cx="2655720" cy="3159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Изменение размера Копия Екатерина 2 улцуш"/>
          <p:cNvPicPr/>
          <p:nvPr/>
        </p:nvPicPr>
        <p:blipFill>
          <a:blip r:embed="rId3"/>
          <a:stretch/>
        </p:blipFill>
        <p:spPr>
          <a:xfrm>
            <a:off x="5076720" y="2205000"/>
            <a:ext cx="265608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3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800000"/>
                </a:solidFill>
                <a:uFillTx/>
                <a:latin typeface="Arial"/>
              </a:rPr>
              <a:t>Используем свои знания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Задание:</a:t>
            </a:r>
            <a:br>
              <a:rPr sz="3200"/>
            </a:b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расскажите от 1 лица о жизни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ряд: от имени крестьян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ряд: от имени дворян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ряд: от имени участника крестьянского восстания Е. Пугачё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Используем свои зн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Реклама о продаже крепостных"/>
          <p:cNvPicPr/>
          <p:nvPr/>
        </p:nvPicPr>
        <p:blipFill>
          <a:blip r:embed="rId1"/>
          <a:stretch/>
        </p:blipFill>
        <p:spPr>
          <a:xfrm>
            <a:off x="179280" y="1268280"/>
            <a:ext cx="3834000" cy="2432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Аукцион крепостных"/>
          <p:cNvPicPr/>
          <p:nvPr/>
        </p:nvPicPr>
        <p:blipFill>
          <a:blip r:embed="rId2"/>
          <a:stretch/>
        </p:blipFill>
        <p:spPr>
          <a:xfrm>
            <a:off x="179280" y="3716280"/>
            <a:ext cx="4410360" cy="290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Наказание крестьян в 18 в батоги кнут"/>
          <p:cNvPicPr/>
          <p:nvPr/>
        </p:nvPicPr>
        <p:blipFill>
          <a:blip r:embed="rId3"/>
          <a:stretch/>
        </p:blipFill>
        <p:spPr>
          <a:xfrm>
            <a:off x="4356000" y="1268280"/>
            <a:ext cx="4537080" cy="2449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Кандалы и цепи 18 в Россия"/>
          <p:cNvPicPr/>
          <p:nvPr/>
        </p:nvPicPr>
        <p:blipFill>
          <a:blip r:embed="rId4"/>
          <a:stretch/>
        </p:blipFill>
        <p:spPr>
          <a:xfrm>
            <a:off x="4716360" y="3933720"/>
            <a:ext cx="424836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Узнаём новое: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785 г. 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Изменение размера Копия Екатерина 2 улцуш"/>
          <p:cNvPicPr/>
          <p:nvPr/>
        </p:nvPicPr>
        <p:blipFill>
          <a:blip r:embed="rId1"/>
          <a:stretch/>
        </p:blipFill>
        <p:spPr>
          <a:xfrm>
            <a:off x="4716360" y="4508640"/>
            <a:ext cx="1656000" cy="1898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http://history.syktnet.ru/03/001/23/img/032.jpg"/>
          <p:cNvPicPr/>
          <p:nvPr/>
        </p:nvPicPr>
        <p:blipFill>
          <a:blip r:embed="rId2"/>
          <a:stretch/>
        </p:blipFill>
        <p:spPr>
          <a:xfrm>
            <a:off x="6588000" y="1413000"/>
            <a:ext cx="2249640" cy="3120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Екатерина 2 аа"/>
          <p:cNvPicPr/>
          <p:nvPr/>
        </p:nvPicPr>
        <p:blipFill>
          <a:blip r:embed="rId3"/>
          <a:stretch/>
        </p:blipFill>
        <p:spPr>
          <a:xfrm>
            <a:off x="971640" y="1413000"/>
            <a:ext cx="3671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Жалованная грамота дворянству» вставляем дату        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17_-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https://penzavzglyad.ru/images/uploads/da675c7fe7ed97e22d27c3646b1ded69.jpg"/>
          <p:cNvPicPr/>
          <p:nvPr/>
        </p:nvPicPr>
        <p:blipFill>
          <a:blip r:embed="rId2"/>
          <a:stretch/>
        </p:blipFill>
        <p:spPr>
          <a:xfrm>
            <a:off x="324000" y="1268280"/>
            <a:ext cx="8496000" cy="52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ботаем с документом:</a:t>
            </a:r>
            <a:r>
              <a:rPr b="1" i="1" lang="ru-RU" sz="4400" spc="-1" strike="noStrike" u="sng">
                <a:solidFill>
                  <a:srgbClr val="800000"/>
                </a:solidFill>
                <a:uFillTx/>
                <a:latin typeface="Arial"/>
              </a:rPr>
              <a:t> 178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http://history.syktnet.ru/03/001/23/img/032.jpg"/>
          <p:cNvPicPr/>
          <p:nvPr/>
        </p:nvPicPr>
        <p:blipFill>
          <a:blip r:embed="rId2"/>
          <a:stretch/>
        </p:blipFill>
        <p:spPr>
          <a:xfrm>
            <a:off x="539640" y="1484280"/>
            <a:ext cx="3689640" cy="5118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http://tainy.net/wp-content/uploads/2010/10/ekaterina_vek2_01.jpg"/>
          <p:cNvPicPr/>
          <p:nvPr/>
        </p:nvPicPr>
        <p:blipFill>
          <a:blip r:embed="rId3"/>
          <a:stretch/>
        </p:blipFill>
        <p:spPr>
          <a:xfrm>
            <a:off x="4878360" y="1484280"/>
            <a:ext cx="383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1"/>
          <p:cNvSpPr/>
          <p:nvPr/>
        </p:nvSpPr>
        <p:spPr>
          <a:xfrm>
            <a:off x="971640" y="476280"/>
            <a:ext cx="720072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спользуем технологию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й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asus </a:t>
            </a:r>
            <a:r>
              <a:rPr b="0" i="1" lang="ru-RU" sz="36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(лат.)– </a:t>
            </a:r>
            <a:r>
              <a:rPr b="0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запутанный необычный случай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ase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r>
              <a:rPr b="0" lang="ru-RU" sz="36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(анг.)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ортфель, чемоданчик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bag1-bw"/>
          <p:cNvPicPr/>
          <p:nvPr/>
        </p:nvPicPr>
        <p:blipFill>
          <a:blip r:embed="rId1"/>
          <a:stretch/>
        </p:blipFill>
        <p:spPr>
          <a:xfrm>
            <a:off x="6372360" y="1268280"/>
            <a:ext cx="235728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кей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Наполните содержание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е документ 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« Жалованная грамота дворянству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иведите доказательства улучшения положения дворя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делите противоречивую проблемную ситуацию ( по возможности предложите пути решения проблемы).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«Время Екатерины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II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для дворян – золотой век,  а для крестьян___________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bag1-bw"/>
          <p:cNvPicPr/>
          <p:nvPr/>
        </p:nvPicPr>
        <p:blipFill>
          <a:blip r:embed="rId1"/>
          <a:stretch/>
        </p:blipFill>
        <p:spPr>
          <a:xfrm>
            <a:off x="6443640" y="189000"/>
            <a:ext cx="2357640" cy="250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https://avatars.mds.yandex.net/get-zen_doc/759807/pub_5ac7943bd7bf213a1be877a6_5ac7945dbcf1bcb73f89e15a/scale_1200"/>
          <p:cNvPicPr/>
          <p:nvPr/>
        </p:nvPicPr>
        <p:blipFill>
          <a:blip r:embed="rId2"/>
          <a:stretch/>
        </p:blipFill>
        <p:spPr>
          <a:xfrm>
            <a:off x="108000" y="115920"/>
            <a:ext cx="244800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74152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му принадлежат сло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16000" y="2492280"/>
            <a:ext cx="6656400" cy="31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«Или умру, или буду царствовать»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Изменение размера Копия Екатерина 2 улцуш"/>
          <p:cNvPicPr/>
          <p:nvPr/>
        </p:nvPicPr>
        <p:blipFill>
          <a:blip r:embed="rId1"/>
          <a:stretch/>
        </p:blipFill>
        <p:spPr>
          <a:xfrm>
            <a:off x="6488280" y="3500280"/>
            <a:ext cx="2655720" cy="31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Запишите в тетрад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57200" y="1600200"/>
          <a:ext cx="8229600" cy="4876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рян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стьян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9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ли право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имели пра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язан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Проверяем свои зн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https://cf.ppt-online.org/files1/slide/g/GMqzNF8B2L6o0Y9banJPrmvhsl3Ww4ETdHAOVfX5Kt/slide-17.jpg"/>
          <p:cNvPicPr/>
          <p:nvPr/>
        </p:nvPicPr>
        <p:blipFill>
          <a:blip r:embed="rId1"/>
          <a:stretch/>
        </p:blipFill>
        <p:spPr>
          <a:xfrm>
            <a:off x="755640" y="1268280"/>
            <a:ext cx="770400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Крепостное право при Екатерине </a:t>
            </a:r>
            <a:r>
              <a:rPr b="1" i="1" lang="en-US" sz="38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I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2268360" y="1268280"/>
            <a:ext cx="180036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худ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естья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сяч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4284720" y="1268280"/>
            <a:ext cx="3457440" cy="720720"/>
          </a:xfrm>
          <a:prstGeom prst="wedgeRectCallout">
            <a:avLst>
              <a:gd name="adj1" fmla="val -64416"/>
              <a:gd name="adj2" fmla="val 687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-дневная барщина безземельных крестьян за получение месячного запа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1116000" y="2492280"/>
            <a:ext cx="180036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каз 1765 г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ешаю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правл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естья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катор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3708360" y="2492280"/>
            <a:ext cx="180036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каз 1767 г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рещаю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естьян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алов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омещ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6300720" y="2492280"/>
            <a:ext cx="180036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каз 1783 г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одивш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епост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Укра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1042920" y="4076640"/>
            <a:ext cx="331164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дача государстве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естьян помещик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4859280" y="4076640"/>
            <a:ext cx="331164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орение крестья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2"/>
          <p:cNvSpPr/>
          <p:nvPr/>
        </p:nvSpPr>
        <p:spPr>
          <a:xfrm>
            <a:off x="900000" y="5373720"/>
            <a:ext cx="7270920" cy="11509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Крепостничество при Екатерине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________?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Дворяне имели право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95280" y="1197000"/>
            <a:ext cx="8291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лучение титула «благородног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бождение от телесных наказ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бождение от служ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не платить нал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отправлять крестьян на катор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собственности на недра и зем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иметь сословные учре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выезда за границ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заниматься  торгово  – промышленной деятельн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спользуя  материал  рабоч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истов, подум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группа: почему Екатерин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держивала дворянст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группа: почему Екатерин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будучи «просвещённой» императрицей и ценя свободу, укрепляла и усиливала крепостное пра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группа: почему Екатерин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удалось так долго продержаться на престол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Екатерина 2 аа"/>
          <p:cNvPicPr/>
          <p:nvPr/>
        </p:nvPicPr>
        <p:blipFill>
          <a:blip r:embed="rId1"/>
          <a:stretch/>
        </p:blipFill>
        <p:spPr>
          <a:xfrm>
            <a:off x="6948360" y="189000"/>
            <a:ext cx="1873440" cy="2520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bag1-bw"/>
          <p:cNvPicPr/>
          <p:nvPr/>
        </p:nvPicPr>
        <p:blipFill>
          <a:blip r:embed="rId2"/>
          <a:stretch/>
        </p:blipFill>
        <p:spPr>
          <a:xfrm>
            <a:off x="539640" y="189000"/>
            <a:ext cx="175104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Вспоминаем проблем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чему  Екатерина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II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, будучи «просвещённой» императрицей и ценя свободу, укрепляла и усиливала крепостное прав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Аукцион крепостных"/>
          <p:cNvPicPr/>
          <p:nvPr/>
        </p:nvPicPr>
        <p:blipFill>
          <a:blip r:embed="rId1"/>
          <a:stretch/>
        </p:blipFill>
        <p:spPr>
          <a:xfrm>
            <a:off x="468360" y="3860640"/>
            <a:ext cx="3860640" cy="2540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Екатерина 2 аа"/>
          <p:cNvPicPr/>
          <p:nvPr/>
        </p:nvPicPr>
        <p:blipFill>
          <a:blip r:embed="rId2"/>
          <a:stretch/>
        </p:blipFill>
        <p:spPr>
          <a:xfrm>
            <a:off x="5867280" y="3933720"/>
            <a:ext cx="18734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к понимаете сло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50920" y="1484280"/>
            <a:ext cx="864216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«Если я посмею сказать, что они (крепостные) такие же люди, как мы, то я рискую, что в меня станут бросать каменьями…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https://55341418bc55394fbe0f-65d6d0e87ce8126fb80e16752287ad6c.ssl.cf1.rackcdn.com/3e23780c-2818-11e7-b63b-08606e681840/large.jpeg"/>
          <p:cNvPicPr/>
          <p:nvPr/>
        </p:nvPicPr>
        <p:blipFill>
          <a:blip r:embed="rId1"/>
          <a:stretch/>
        </p:blipFill>
        <p:spPr>
          <a:xfrm>
            <a:off x="6227640" y="3573360"/>
            <a:ext cx="2676600" cy="3168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https://www.syl.ru/misc/i/ai/348652/2056277.jpg"/>
          <p:cNvPicPr/>
          <p:nvPr/>
        </p:nvPicPr>
        <p:blipFill>
          <a:blip r:embed="rId2"/>
          <a:stretch/>
        </p:blipFill>
        <p:spPr>
          <a:xfrm>
            <a:off x="324000" y="3716280"/>
            <a:ext cx="288756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Предположите: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ем занимались дворяне, имея много свободного времени и  средства для жизни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http://dshi-shebekino.ru/wp-content/uploads/2016/02/dbc1ef750b65.jpg"/>
          <p:cNvPicPr/>
          <p:nvPr/>
        </p:nvPicPr>
        <p:blipFill>
          <a:blip r:embed="rId1"/>
          <a:srcRect l="0" t="10306" r="0" b="0"/>
          <a:stretch/>
        </p:blipFill>
        <p:spPr>
          <a:xfrm>
            <a:off x="0" y="2924280"/>
            <a:ext cx="4694400" cy="3446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https://filed8-1.my.mail.ru/pic?url=http%3A%2F%2Fimg-fotki.yandex.ru%2Fget%2F5639%2F132639772.46%2F0_ab1c3_6b876188_XL.jpg&amp;mw=&amp;mh=&amp;sig=2b47e9d1e552004414cfb08c711cfce9"/>
          <p:cNvPicPr/>
          <p:nvPr/>
        </p:nvPicPr>
        <p:blipFill>
          <a:blip r:embed="rId2"/>
          <a:stretch/>
        </p:blipFill>
        <p:spPr>
          <a:xfrm>
            <a:off x="4716360" y="2924280"/>
            <a:ext cx="44276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Определите занятия дворя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http://www.ikirov.ru/attachments/ck/pictures/1/14721/content_1448800525-3f54a03726.jpg"/>
          <p:cNvPicPr/>
          <p:nvPr/>
        </p:nvPicPr>
        <p:blipFill>
          <a:blip r:embed="rId1"/>
          <a:stretch/>
        </p:blipFill>
        <p:spPr>
          <a:xfrm>
            <a:off x="4500720" y="3930480"/>
            <a:ext cx="4174920" cy="2738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https://filed9-26.my.mail.ru/pic?url=http%3A%2F%2Fimg-fotki.yandex.ru%2Fget%2F6723%2F122263170.d4%2F0_25ded0_a50dd2e7_XXXL.jpg&amp;mw=&amp;mh=&amp;sig=5749f6623e95e2c211185f4b2001ab6e"/>
          <p:cNvPicPr/>
          <p:nvPr/>
        </p:nvPicPr>
        <p:blipFill>
          <a:blip r:embed="rId2"/>
          <a:srcRect l="0" t="12264" r="0" b="0"/>
          <a:stretch/>
        </p:blipFill>
        <p:spPr>
          <a:xfrm>
            <a:off x="395280" y="1197000"/>
            <a:ext cx="3027240" cy="3371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https://filed4-22.my.mail.ru/pic?url=http%3A%2F%2Fimg-fotki.yandex.ru%2Fget%2F6840%2F96386024.272%2F0_f5e18_acd07882_orig.jpg&amp;mw=&amp;mh=&amp;sig=b03b129624c5a4c1625913aaeebb6910"/>
          <p:cNvPicPr/>
          <p:nvPr/>
        </p:nvPicPr>
        <p:blipFill>
          <a:blip r:embed="rId3"/>
          <a:stretch/>
        </p:blipFill>
        <p:spPr>
          <a:xfrm>
            <a:off x="4500720" y="1197000"/>
            <a:ext cx="4187520" cy="23558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http://4.bp.blogspot.com/-cXjSHtRo6I0/Ulo_--SU9sI/AAAAAAACkiA/2JsFSZm7q7w/s1600/328e2fcbdfad.jpg"/>
          <p:cNvPicPr/>
          <p:nvPr/>
        </p:nvPicPr>
        <p:blipFill>
          <a:blip r:embed="rId4"/>
          <a:stretch/>
        </p:blipFill>
        <p:spPr>
          <a:xfrm>
            <a:off x="395280" y="4437000"/>
            <a:ext cx="30970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5690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Продолжи предложение:</a:t>
            </a: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правления  Екатерин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звали «Золотым веком дворянства» потому что ______________________________   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Екатерина 2 аа"/>
          <p:cNvPicPr/>
          <p:nvPr/>
        </p:nvPicPr>
        <p:blipFill>
          <a:blip r:embed="rId1"/>
          <a:stretch/>
        </p:blipFill>
        <p:spPr>
          <a:xfrm>
            <a:off x="250920" y="2133720"/>
            <a:ext cx="3186000" cy="4525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Изменение размера Копия Екатерина 2 улцуш"/>
          <p:cNvPicPr/>
          <p:nvPr/>
        </p:nvPicPr>
        <p:blipFill>
          <a:blip r:embed="rId2"/>
          <a:stretch/>
        </p:blipFill>
        <p:spPr>
          <a:xfrm>
            <a:off x="5651640" y="3429000"/>
            <a:ext cx="265572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Екатерина 2 аа"/>
          <p:cNvPicPr/>
          <p:nvPr/>
        </p:nvPicPr>
        <p:blipFill>
          <a:blip r:embed="rId1"/>
          <a:stretch/>
        </p:blipFill>
        <p:spPr>
          <a:xfrm>
            <a:off x="0" y="0"/>
            <a:ext cx="482904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76360" y="189000"/>
            <a:ext cx="3816360" cy="173808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9b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ЕКАТЕРИНА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</a:t>
            </a:r>
            <a:br>
              <a:rPr sz="36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ЕЛИКА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j035437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839080" y="6572160"/>
            <a:ext cx="304920" cy="2858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6"/>
          <p:cNvSpPr/>
          <p:nvPr/>
        </p:nvSpPr>
        <p:spPr>
          <a:xfrm>
            <a:off x="4967280" y="2205000"/>
            <a:ext cx="4176720" cy="40258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Екатерина 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(урождённая Софья Фредерика Августа Анхальт-Цербстская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(1729-179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Российская императрица с 176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Из обедневшего немецкого княжеского р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С 1744 в России. С 1745 жена великого князя Петра Фёдоровича (будущего императора Петра III). После восшествия мужа на престол свергла его (1762), опираясь на гвардию, Г. Г. и А. Г. Орловых и др</a:t>
            </a:r>
            <a:r>
              <a:rPr b="0" lang="ru-RU" sz="1800" spc="-1" strike="noStrike">
                <a:solidFill>
                  <a:srgbClr val="e5cca3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"/>
          <p:cNvSpPr/>
          <p:nvPr/>
        </p:nvSpPr>
        <p:spPr>
          <a:xfrm>
            <a:off x="611280" y="260280"/>
            <a:ext cx="820872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Проверь себ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из перечисленных льгот, льготы для дворян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ЛИ БОЛЬШИЕ НАЛОГ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БОЖДЕНЫ ОТ ОБЯЗАТЕЛЬНОЙ ВОЕННОЙ СЛУЖ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РГАЛИСЬ ТЕЛЕСНЫМ НАКАЗА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АЛИ ЗЕМ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ЛИ ВЫЕЗЖАТЬ ЗА ГРАНИ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ЕШАЛОСЬ НЕ СЛУЖ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НЯЛИСЬ ТЕЛЕСНЫЕ НАКАЗ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Прямоугольник 1"/>
          <p:cNvSpPr/>
          <p:nvPr/>
        </p:nvSpPr>
        <p:spPr>
          <a:xfrm>
            <a:off x="324000" y="476280"/>
            <a:ext cx="8424720" cy="38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800000"/>
                </a:solidFill>
                <a:uFillTx/>
                <a:latin typeface="Arial"/>
              </a:rPr>
              <a:t>Представителю какого сословия принадлежат слов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 я жил под ее скипетро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 я был счастлив ее правлением!»</a:t>
            </a:r>
            <a:br>
              <a:rPr sz="4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Екатерина 2 со ск 3875"/>
          <p:cNvPicPr/>
          <p:nvPr/>
        </p:nvPicPr>
        <p:blipFill>
          <a:blip r:embed="rId1"/>
          <a:stretch/>
        </p:blipFill>
        <p:spPr>
          <a:xfrm>
            <a:off x="4500720" y="3573360"/>
            <a:ext cx="3456000" cy="30844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Изменение размера Копия Екатерина 2 улцуш"/>
          <p:cNvPicPr/>
          <p:nvPr/>
        </p:nvPicPr>
        <p:blipFill>
          <a:blip r:embed="rId2"/>
          <a:stretch/>
        </p:blipFill>
        <p:spPr>
          <a:xfrm>
            <a:off x="6300720" y="3429000"/>
            <a:ext cx="265608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рямоугольник 1"/>
          <p:cNvSpPr/>
          <p:nvPr/>
        </p:nvSpPr>
        <p:spPr>
          <a:xfrm>
            <a:off x="2195640" y="15573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https://ds04.infourok.ru/uploads/ex/069d/000e376c-8b388f13/img8.jpg"/>
          <p:cNvPicPr/>
          <p:nvPr/>
        </p:nvPicPr>
        <p:blipFill>
          <a:blip r:embed="rId1"/>
          <a:stretch/>
        </p:blipFill>
        <p:spPr>
          <a:xfrm>
            <a:off x="179280" y="115920"/>
            <a:ext cx="8810640" cy="63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Прямоугольник 1"/>
          <p:cNvSpPr/>
          <p:nvPr/>
        </p:nvSpPr>
        <p:spPr>
          <a:xfrm>
            <a:off x="611280" y="260280"/>
            <a:ext cx="820872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Домашнее 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. 16 (учебник «История России» И. Л. Андреев, Л. М. Ляшенко).  Пункт  2 «Время жалованных грамот», документ с. 14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Тренировочные задания и тесты по теме «Внутренняя политика   Екатерины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Содержимое 3" descr=""/>
          <p:cNvPicPr/>
          <p:nvPr/>
        </p:nvPicPr>
        <p:blipFill>
          <a:blip r:embed="rId1"/>
          <a:stretch/>
        </p:blipFill>
        <p:spPr>
          <a:xfrm>
            <a:off x="2651040" y="3432240"/>
            <a:ext cx="392580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Екатерина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II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Великая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зовите настоящее имя  _______и годы правления 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https://chistovik.info/wp-content/uploads/2018/10/Ekaterina-II.jpg"/>
          <p:cNvPicPr/>
          <p:nvPr/>
        </p:nvPicPr>
        <p:blipFill>
          <a:blip r:embed="rId1"/>
          <a:stretch/>
        </p:blipFill>
        <p:spPr>
          <a:xfrm>
            <a:off x="108000" y="115920"/>
            <a:ext cx="882180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Аукцион да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176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Проверь себя:</a:t>
            </a: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 1762 </a:t>
            </a:r>
            <a:r>
              <a:rPr b="1" i="1" lang="ru-RU" sz="44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ифест о вольности дворян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рцовый переворот, в результате  которого был убит Пёт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о правления Екатерины Втор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нчание эпохи дворцовых переворо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По какому принципу образован ряд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68360" y="2421000"/>
            <a:ext cx="7991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Разин, К. Булавин, Е. Пугачё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Проверь себя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5075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водители крестьянских восст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70 – 1671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стание Степана Раз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07 – 1708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осстание под предводительством Кондратия Булав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73 – 1775 - восстание под предводительством  Емельяна Пугачё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Казнь Пугачёва оо"/>
          <p:cNvPicPr/>
          <p:nvPr/>
        </p:nvPicPr>
        <p:blipFill>
          <a:blip r:embed="rId1"/>
          <a:stretch/>
        </p:blipFill>
        <p:spPr>
          <a:xfrm>
            <a:off x="6156360" y="4437000"/>
            <a:ext cx="2319480" cy="2003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Разин ллв"/>
          <p:cNvPicPr/>
          <p:nvPr/>
        </p:nvPicPr>
        <p:blipFill>
          <a:blip r:embed="rId2"/>
          <a:stretch/>
        </p:blipFill>
        <p:spPr>
          <a:xfrm>
            <a:off x="900000" y="4941720"/>
            <a:ext cx="241164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Исключите лишне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3640" y="1628640"/>
            <a:ext cx="8661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аз, Кондиции, Уложенная комиссия, просвещённый абсолют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Вставьте слов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«Золотой век русского </a:t>
            </a:r>
            <a:r>
              <a:rPr b="1" lang="ru-RU" sz="4400" spc="-1" strike="noStrike">
                <a:solidFill>
                  <a:srgbClr val="cc9900"/>
                </a:solidFill>
                <a:latin typeface="Arial"/>
              </a:rPr>
              <a:t>__________________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22:23:12Z</dcterms:created>
  <dc:creator>Свечников С.К.</dc:creator>
  <dc:description/>
  <dc:language>en-US</dc:language>
  <cp:lastModifiedBy>Image&amp;Matros ®</cp:lastModifiedBy>
  <dcterms:modified xsi:type="dcterms:W3CDTF">2019-03-14T12:40:36Z</dcterms:modified>
  <cp:revision>144</cp:revision>
  <dc:subject/>
  <dc:title>Слайд 1</dc:title>
</cp:coreProperties>
</file>